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5DD2-9198-49B4-8832-F518DE85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7CC4-CC99-41FD-AA96-44961E2B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65F5-E80C-43FC-997E-F3567B0B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43A3-18F5-4BC4-9F87-FC2199A9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6269-331A-4C11-84BF-11F00ADE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783B-C5C0-48CD-A19A-4E37B4B1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8C90-24E3-429E-A55E-A7DCB20F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2782-249A-4376-BF4F-343578D0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19E-DB2E-4053-9F5D-55B1DA76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68F8-AADD-463C-8626-9BA37BA7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F64-89B2-40FF-9513-60C4F347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4FB-F414-454A-AEE4-FC30866F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3BA5-6BFB-4B3A-9887-5E6E9FC1277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1360" y="4000680"/>
            <a:ext cx="7715160" cy="24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6000" spc="-1" strike="noStrike">
                <a:solidFill>
                  <a:srgbClr val="000000"/>
                </a:solidFill>
                <a:latin typeface="Castellar"/>
              </a:rPr>
              <a:t>CULTURAL GEOGRAPH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8"/>
          <p:cNvSpPr/>
          <p:nvPr/>
        </p:nvSpPr>
        <p:spPr>
          <a:xfrm>
            <a:off x="611280" y="5229360"/>
            <a:ext cx="46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Ideological subsystem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consist of the ideas, beliefs, and knowledge of a culture and of the ways in which they are expressed in speech or other forms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(Mythologies, theologies, legend, literature, philosophy, folk, wisdom &amp; commonsense knowled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Mentifacts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tells us what we ought to believe, what we should value and how we ought to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al integration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the interlocking nature of all aspects of a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al Integration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means that any cultural object or act may have a number of mean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714320"/>
            <a:ext cx="89298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6600" spc="-1" strike="noStrike">
                <a:solidFill>
                  <a:srgbClr val="000000"/>
                </a:solidFill>
                <a:latin typeface="comic"/>
              </a:rPr>
              <a:t>CULTURE CHAN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Culture change is induc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Accult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"/>
              </a:rPr>
              <a:t>Innov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es changes to the culture that result from ideas created within the social group itself and adopted by the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b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ed in improvement in materia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ment of nonmaterial form of social structure and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PH" sz="3600" spc="-1" strike="noStrike">
                <a:solidFill>
                  <a:srgbClr val="000000"/>
                </a:solidFill>
                <a:latin typeface="Arial"/>
              </a:rPr>
              <a:t>All innovations has a radiating impact upon the web of culture; the more basic the innovation, the more pervasive its consequ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600" spc="-1" strike="noStrike">
                <a:solidFill>
                  <a:srgbClr val="000000"/>
                </a:solidFill>
                <a:latin typeface="Arial"/>
              </a:rPr>
              <a:t>Agricultural 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e Hearth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use to describe those restricted areas of innovation from which key culture elements diffused to exert an influence on surrounding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7200" spc="-1" strike="noStrike">
                <a:solidFill>
                  <a:srgbClr val="000000"/>
                </a:solidFill>
                <a:latin typeface="comic"/>
              </a:rPr>
              <a:t>Diffus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wo process of diffusion is involve in diff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Arial"/>
              </a:rPr>
              <a:t>People move to a new area and take their culture with them</a:t>
            </a:r>
            <a:r>
              <a:rPr b="1" lang="en-PH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Arial"/>
              </a:rPr>
              <a:t>The spread of information about an innovation throughout a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Arial"/>
              </a:rPr>
              <a:t>Syncretism-</a:t>
            </a:r>
            <a:r>
              <a:rPr b="0" lang="en-PH" sz="2800" spc="-1" strike="noStrike">
                <a:solidFill>
                  <a:srgbClr val="000000"/>
                </a:solidFill>
                <a:latin typeface="Arial"/>
              </a:rPr>
              <a:t> the process of the fusion of old and new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400" spc="-1" strike="noStrike">
                <a:solidFill>
                  <a:srgbClr val="000000"/>
                </a:solidFill>
                <a:latin typeface="comic"/>
              </a:rPr>
              <a:t>ACCULTU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42884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Process by which one culture group undergoes a major modification by adopting many of the characteristics of another, usually dominant, cultur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5400" spc="-1" strike="noStrike">
                <a:solidFill>
                  <a:srgbClr val="000000"/>
                </a:solidFill>
                <a:latin typeface="Baskerville Old Face"/>
              </a:rPr>
              <a:t>CULTURAL DIVERS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6000" spc="-1" strike="noStrike">
                <a:solidFill>
                  <a:srgbClr val="000000"/>
                </a:solidFill>
                <a:latin typeface="Baskerville Old Face"/>
              </a:rPr>
              <a:t>OBJECTI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hese are the following objectives of this re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o have an in depth understanding about what culture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o differentiate the cultures of one country to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o know how culture sp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o show the impact of culture to the lives of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Ethn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7200" spc="-1" strike="noStrike">
                <a:solidFill>
                  <a:srgbClr val="000000"/>
                </a:solidFill>
                <a:latin typeface="Baskerville Old Face"/>
              </a:rPr>
              <a:t>LANGUAG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6600" spc="-1" strike="noStrike">
                <a:solidFill>
                  <a:srgbClr val="000000"/>
                </a:solidFill>
                <a:latin typeface="comic"/>
              </a:rPr>
              <a:t>LANGUA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- defined simply as an organized system of speech by which people communicate with each other with mutual compreh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-most important medium by which culture is transmit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-can be both a cause and a symbol of cultural differenti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Language 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i="1" lang="en-PH" sz="3200" spc="-1" strike="noStrike">
                <a:solidFill>
                  <a:srgbClr val="000000"/>
                </a:solidFill>
                <a:latin typeface="Arial"/>
              </a:rPr>
              <a:t>linguistic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family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a group of languages thought to have a common origin in a single, earlier ton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Subfamilies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or bran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Social dialects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denotes social class and educational levels, with speakers of higher socioeconomic status or educational achievement most likely to follow the norms of their standard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Vernacular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nonstandard language or dialect adopted by the socia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Linguistic Geography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he study of character and spatial pattern of geographic, or regional dial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Pidgin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is an amalgam of languages, usually a simplified form of one of them, with borrowings from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- Characterized by a highly simplified grammatical structure and a sharply reduced vocabulary adequate to express basic ideas but not complex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reole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invariably acquire a more complex grammatical structure and enhanced vocabu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Lingua franca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established language used habitually for communication by people whose native tongues are mutually incomprehen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PH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8000" spc="-1" strike="noStrike">
                <a:solidFill>
                  <a:srgbClr val="000000"/>
                </a:solidFill>
                <a:latin typeface="Baskerville Old Face"/>
              </a:rPr>
              <a:t>RELIG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comic"/>
              </a:rPr>
              <a:t>CLASSIFICATION AND DISTRIBUTION OF RELI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Monotheis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belief in a single de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Polytheis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belief in many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UNIVERSALIZING RELIG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Budd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4400" spc="-1" strike="noStrike">
                <a:solidFill>
                  <a:srgbClr val="000000"/>
                </a:solidFill>
                <a:latin typeface="Arial"/>
              </a:rPr>
              <a:t>Culture – </a:t>
            </a:r>
            <a:r>
              <a:rPr b="0" lang="en-PH" sz="4400" spc="-1" strike="noStrike">
                <a:solidFill>
                  <a:srgbClr val="000000"/>
                </a:solidFill>
                <a:latin typeface="Arial"/>
              </a:rPr>
              <a:t>is as much a part of the regional differentiation of the earth  as are topography, climate, and other aspects of physical environ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Universalizing Religions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is open to anyone who chooses to make a symbolic commi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Ethnic Religions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have strong territorial and cultural group ident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one becomes a member </a:t>
            </a: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birth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by adoption of a complex lifestyle and cultural identity, not by a simple declaration of fa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Tribal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(or traditional) </a:t>
            </a: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religions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special forms of ethnic religions distinguished by their small size, heir unique identity with localized culture groups not yet fully absorbed into modern society and their close ties to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Animis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life exist in all objects, from rocks and trees and lakes and mountains or that such objects are the abode of the  dead, of spirits, and of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Shamanis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form of tribal religion that involves community acceptance of a shaman who, through special powers, can intercede with and interpret the spirit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Secularism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an indifference to or rejection of religion and religious belief, is an increasing part of many modern societies, particularly of the industrialized countries and those now or recently under communist reg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400" spc="-1" strike="noStrike">
                <a:solidFill>
                  <a:srgbClr val="000000"/>
                </a:solidFill>
                <a:latin typeface="Aparajita"/>
                <a:ea typeface="Aparajita"/>
              </a:rPr>
              <a:t>A lesson learned is a skill that can be taught, a skill that can be taught is another opportunity for others to learn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4400" spc="-1" strike="noStrike">
                <a:solidFill>
                  <a:srgbClr val="000000"/>
                </a:solidFill>
                <a:latin typeface="Castellar"/>
              </a:rPr>
              <a:t>COMPONENTS OF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e traits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are units of learned behaviour ranging from the language spoken to the tools used or to the games played. (object, technique, attitu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e complex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individual culture traits that are functionally inter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e syste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a larger spatial reality and general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e region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a portion of the earth’s surface occupied by people sharing recognizable and distinctive cultural character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e real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he term recognizes s large segment of the earth’s surface having fundamental uniformity in its cultural characteristics and showing a significant difference in them from adjacent real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Castellar"/>
              </a:rPr>
              <a:t>INTERACTION OF PEOPLE AND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al ecology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the study of the relationship between a culture group and the natural environment it occup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download (1).jpg"/>
          <p:cNvPicPr/>
          <p:nvPr/>
        </p:nvPicPr>
        <p:blipFill>
          <a:blip r:embed="rId1"/>
          <a:stretch/>
        </p:blipFill>
        <p:spPr>
          <a:xfrm>
            <a:off x="1714680" y="3143160"/>
            <a:ext cx="3929040" cy="3143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600" spc="-1" strike="noStrike">
                <a:solidFill>
                  <a:srgbClr val="000000"/>
                </a:solidFill>
                <a:latin typeface="Castellar"/>
              </a:rPr>
              <a:t>ENVIRONMENTS AS 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Environmental determinis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he belief that the physical environment by itself shapes humans, the actions, and their thou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Possibilism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 people are the dynamic forces of cultural develo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4400" spc="-1" strike="noStrike">
                <a:solidFill>
                  <a:srgbClr val="000000"/>
                </a:solidFill>
                <a:latin typeface="Castellar"/>
              </a:rPr>
              <a:t>SUBSYSTEMS OF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Technological subsystems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composed of the material objects and the techniques of their use by means of which people are able to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Sociological subsyste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he sum of those expected and accepted patterns of interpersonal relations that find their outlet in economic, political, military, religious, kinship, and other associ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irish</cp:lastModifiedBy>
  <dcterms:modified xsi:type="dcterms:W3CDTF">2012-10-01T23:42:13Z</dcterms:modified>
  <cp:revision>776</cp:revision>
  <dc:subject/>
  <dc:title>Diapositiva 1</dc:title>
</cp:coreProperties>
</file>